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7.gif" ContentType="image/gif"/>
  <Override PartName="/ppt/media/image5.jpeg" ContentType="image/jpeg"/>
  <Override PartName="/ppt/media/image17.png" ContentType="image/png"/>
  <Override PartName="/ppt/media/image10.wmf" ContentType="image/x-wmf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8.gif" ContentType="image/gif"/>
  <Override PartName="/ppt/media/image19.wmf" ContentType="image/x-wmf"/>
  <Override PartName="/ppt/media/image18.jpeg" ContentType="image/jpeg"/>
  <Override PartName="/ppt/media/image9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DAB5-3B75-4A93-A82D-AE5C05372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BC1D-D1A4-446B-A2DB-1671CCCB0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4E0D-A45F-4683-A2B9-A6942A5EB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095C-3092-4BCF-B4F7-C3FDE387B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5676-A0FB-4AFB-BDF8-06D401C8C6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CC90-7390-4961-85D5-A3A1D9E41C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DB419-22B5-48D7-9085-67BD3C4214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75B3E-864E-41A3-8603-86E4A33A90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EA3D4-A746-4D88-8BDE-BE2B4CACA3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54775-AA1F-4109-BAC9-363FB8A0EC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6413-AE9D-4E63-B431-0ABAEF2455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458D-CE36-42FA-82DF-EC710AF27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5126-48E5-461B-A79E-A23934D4FF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A0B65-395A-4A06-9B8E-7F62007FA2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67B61-E51A-4AE5-85B7-BD7FBD4C65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77691-4F25-46DB-B366-CC46279631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F2240-175F-4D87-9B27-4262B9BC2D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7C7-C0A1-4BB0-BA08-24F96DC010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81A-BCA7-4C50-9592-AB32365E65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4A6-B386-41EC-B727-5C12BEF4F8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ABA-800A-4DED-9F13-5F7BC778C4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C77-1F3B-4302-A930-F5141438AB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FD08-6E9F-4EC8-ACC3-DD511D8539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C38-021B-4602-BEB5-B8D51CBA19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66DD-954A-4D2A-9559-942AB8BB7D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B19-EBD9-432E-B03E-E86D689855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EC48-9700-4ED7-B5F0-FFB4286E8B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826-9670-42F8-A850-445DC6968A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451-B74A-488B-AB53-2D19AB92C5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290-7186-48D3-A785-B1A2691015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4641D-938F-4D2D-97D7-DFDB87FC74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5244B-9F95-46F8-918D-AE9F864B6A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9EEBF-67E8-42A8-BDFE-C63F091DF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955A-F062-4E0A-862A-6D8D09C26D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E09EC-1C39-43C5-A3BF-3E5836DEFC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DFCCC-E4A3-4513-97FB-DB6E8C5FCC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BC24C-CE2D-4B4B-AC27-98E69BD726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7A31D-8878-4929-96CF-70AF200B3F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7F182-E046-40E4-B296-1399CB179E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92351-E72A-4FD6-9071-D85928FE5F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99025-9FE1-4493-B16E-A0118D4E26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7A6D7-861A-4AAC-9195-5C3DDC4B48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5B1E9-F4AC-4430-9DCE-97A0EA3A9B7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8A750-B0B7-4DED-BC71-62A3596F5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5BF0-05A4-4D6F-80F2-F4DA098F006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83A84-3625-4C09-95A2-9377D6BAA23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98645-1C16-4D9E-B386-3210D2ADD3C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E8CEC-8498-46E3-9DEE-9BFDE9E1EF3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155E3-8A59-4B86-B8F9-1380BF1E1FB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74F5A-FA5B-4610-9634-5C04642A074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24B06-BB6C-418B-A5DA-A1030BCDAEF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B7043-02F9-4ACB-AAEA-3DAB9F29E7B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E8A57-B4D3-44AF-BCA4-4BF64C3324D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09FD5-70EE-4447-8153-C029F817397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7BF73-B63F-43E4-9603-5782DFF54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6D0B-5858-45F5-AA9E-79B85D675F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32247-665F-4E40-82A4-5B3B750E83D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3CC3-2501-499F-B944-23F1A13EA67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132B-CF8C-4C16-98DF-223D45C0815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45A7-E646-4F80-8AE8-B182D38CAF1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9685-322D-4C75-8E05-8DA6835DA88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F58F-C766-43A6-9209-955795D6F5F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3B27-BAD3-46B2-8ADC-F2E7C6BD7F8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ACAD-B38F-4CFB-BC55-B8D86218581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D8E5-4286-439F-82BD-C6F30C27906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F0A2-695B-4749-8824-79845A5DE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9680-73E8-40D4-9CBC-36934C75A00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D957-0B87-4AA3-9C4E-68F1E738B98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EC71-8B87-4922-BD82-89616B68CBD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9486-AD9F-4BCD-A1BD-9A3E5D7C524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2BC5DC-41DA-473B-B599-C3C7EE9CA89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818377-ADED-4912-AE4B-39BD99462B7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6D566E-37FA-46B7-B5F2-C48CE37BBC5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E10A5B-00F3-44FB-86AF-AF87EAD816C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8CDB41-7D36-4495-B810-27BA1AB551E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7DA16C-3D32-4B8A-9C02-A2B104EBF70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CD79DF-3730-4BA6-9C00-5E53DF778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CA7D-3064-425E-A1FA-0752DACF51C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63663D-E36B-4554-B495-2A69052AA37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AF8968-8E1A-4854-8B97-8D6B54F9C3E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77F6B6-03A5-498B-90E5-D8F52159A3A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714E07-99BB-414D-B33E-EBA8839DFB1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448BD2-B865-4035-A428-44664824B75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0F49-DE1B-4682-8821-0C34AB3A17C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3EE08A-B9BC-4FCD-A726-9821A97E5D31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9097920" y="22212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1146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2"/>
          </p:nvPr>
        </p:nvSpPr>
        <p:spPr>
          <a:xfrm>
            <a:off x="1325520" y="4929120"/>
            <a:ext cx="571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C320B4-3A72-410E-8AA5-2090336257E8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AFEE38-A652-4065-99BD-A8014828D4AA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9096480" y="2174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1146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4"/>
          </p:nvPr>
        </p:nvSpPr>
        <p:spPr>
          <a:xfrm>
            <a:off x="1339560" y="4929120"/>
            <a:ext cx="5713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8EB31D-773C-4C43-A6E6-AEEE4BAB7AF0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BBCED3-E002-440D-A1E1-6A4B3A763261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ADBB64-76A2-41B0-9226-0C95DA7664C3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7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EF4756-5C32-47C0-9073-362CEA7024A8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539640" y="642960"/>
            <a:ext cx="7920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ОЕКТ НА ТЕМУ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«НЕГАТИВНОЕ ВЛИЯНИЕ ШУМА Н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ДОРОВЬЕ ЧЕЛОВЕ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4859280" y="3240000"/>
            <a:ext cx="3600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ыполнили 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Иноземцева Т.Н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Фролова Н.А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-360360" y="8810640"/>
            <a:ext cx="2801880" cy="1449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574560" y="2824200"/>
            <a:ext cx="4286520" cy="3295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5759280" y="711360"/>
            <a:ext cx="2802240" cy="14493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"/>
          <p:cNvSpPr/>
          <p:nvPr/>
        </p:nvSpPr>
        <p:spPr>
          <a:xfrm>
            <a:off x="452520" y="314280"/>
            <a:ext cx="746748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Рекомендации </a:t>
            </a:r>
            <a:br>
              <a:rPr sz="2600"/>
            </a:b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по ослаблению негативного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влияния шума на организм челове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457200" y="1979640"/>
            <a:ext cx="746748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Ограничить ежедневное прослушивание громкой музыки, телевизионных передач, работу за компьютером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 выполнении шумной работы, через каждый час делать 10 минутный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	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перерыв или прослушивать успокаивающую музык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Следить за разговорной речью: не кричать, не повышать голос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егулярное медицинское обследовани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садка деревьев вокруг здан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дпочтение отдавать отдыху на природе, а не дискотек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менение средств  защиты от шум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наушники из шумоизолирующих материал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тивошумные вкладыш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2300dc"/>
              </a:buClr>
              <a:buFont typeface="Wingdings" charset="2"/>
              <a:buChar char="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Информационная работа по профилактике влияния шума на здоровье обучающихся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720720" y="720720"/>
            <a:ext cx="73803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ЫВ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В результате ограничения прослушивания громкой музыки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боты        за компьютером улучшился сон у 30% учащихс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2.  Повысилось внимание и активизировалась учебная деятельность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3. Снизилась доля конфликтов между учащимися на 20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4. В течение зимних каникул 60% учащихся предпочли ежедневное    катание на коньках и лыжах ежедневному сидению у компьютера и    телевизора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5. Провели беседу о негативном влиянии шума на учеников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пагандировали здоровый образ жизни в 4 начальных класс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7. После медицинского обследования 10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евятиклассников получили рекоменд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 лечению и восстановлению слух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232000" cy="15112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57200" y="272880"/>
            <a:ext cx="74660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ЧЕЛОВЕК 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457200" y="1600200"/>
            <a:ext cx="74660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, столь мало уважаемое в юных летах, делается в летах зрелости истинным благом; самое чувство жизни бывает гораздо милее тогда, когда уже пролетела ее быстрая половина.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М.Карамз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 никогда не может потерять своей цены в глазах человека, потому что и в довольстве и в роскоши плохо жить без здоровья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Г.Черныше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Берегите уши!  Будьте здоровы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Удачи</a:t>
            </a:r>
            <a:r>
              <a:rPr b="0" lang="ru-RU" sz="2400" spc="-1" strike="noStrike">
                <a:solidFill>
                  <a:srgbClr val="3333cc"/>
                </a:solidFill>
                <a:latin typeface="Century Schoolbook"/>
                <a:ea typeface="Arial Unicode MS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539640" y="4859280"/>
            <a:ext cx="1619280" cy="144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2"/>
          <a:stretch/>
        </p:blipFill>
        <p:spPr>
          <a:xfrm>
            <a:off x="6659640" y="539640"/>
            <a:ext cx="1800000" cy="1440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57200" y="720720"/>
            <a:ext cx="746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Используемая литератур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457200" y="1413000"/>
            <a:ext cx="746748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пользование коммуникативных средств при выполнении проектов как фактор формирования социальной компетентности педагога и учащихся. -Саратов: ИЦ «РАТА», 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ОБЖ, 9 класс, поурочное планирование.-Волгоград: Учитель,2007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Материалы Интернет с сайт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mhtv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file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//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еливерстова Д.Н., Селиверстова В.В., Селиверстов В.Н.Формула здоровья.- Волгоград: Зацарицынский вестник, 199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льичев А.А. Популярная энциклопедия для выживания подростков.-М:ЭКСМО-Пресс,20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олесов Д.В. Учебник «Биология», 8 класс,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6673680" y="4881600"/>
            <a:ext cx="1785960" cy="1417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671400" y="635040"/>
            <a:ext cx="77900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539640" y="4316400"/>
            <a:ext cx="3421080" cy="19843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539640" y="2160720"/>
            <a:ext cx="3419640" cy="19796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"/>
          <p:cNvSpPr/>
          <p:nvPr/>
        </p:nvSpPr>
        <p:spPr>
          <a:xfrm>
            <a:off x="720720" y="720720"/>
            <a:ext cx="755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Обоснование выбора темы про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824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основание выбора темы проекта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4319640" y="2340000"/>
            <a:ext cx="414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гативное влияние шума сказывается на органах слуха, сердечно-сосудистой системе, на работе печени, к истощению и перенапряжению нервных клеток, к изменениям в стволовых клетках. Ослабленные клетки нервной системы не могут достаточно четко координировать работу различных систем организма. Различные виды шумов приводят к развитию шумовой болезни.  Проведенные научные исследования показали, что у людей, находящихся в шумной обстановке,  в результате систематического воздействия шума, производительность труда падает на 10% и увеличивается заболеваемость на 30%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3"/>
          <a:stretch/>
        </p:blipFill>
        <p:spPr>
          <a:xfrm>
            <a:off x="7020000" y="1260360"/>
            <a:ext cx="1218960" cy="1171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457200" y="274680"/>
            <a:ext cx="641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ЦЕЛЬ ПРОЕКТА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азработа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екомендации по защите от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негативного воздействия шума   на организм человека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6200" cy="2357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"/>
          <p:cNvPicPr/>
          <p:nvPr/>
        </p:nvPicPr>
        <p:blipFill>
          <a:blip r:embed="rId2"/>
          <a:stretch/>
        </p:blipFill>
        <p:spPr>
          <a:xfrm>
            <a:off x="1779480" y="4319640"/>
            <a:ext cx="2000520" cy="1928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АДАЧ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395280" y="1628640"/>
            <a:ext cx="8115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Выяснить, что такое шу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Выявить источники шума в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окружающей сре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Выявить опасный предел шума д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осприятия чело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Рекомендовать способы защиты о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шу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6300720" y="1440000"/>
            <a:ext cx="1643040" cy="1714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619280" y="189000"/>
            <a:ext cx="70358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РИТЕРИ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35080" y="1481040"/>
            <a:ext cx="900108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     Красоч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     Доступ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изложения материал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     Информатив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     Достовер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480960" y="5040360"/>
            <a:ext cx="1859040" cy="1463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5425920" y="4500720"/>
            <a:ext cx="3033720" cy="1800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3"/>
          <a:stretch/>
        </p:blipFill>
        <p:spPr>
          <a:xfrm>
            <a:off x="5265720" y="1265400"/>
            <a:ext cx="3193920" cy="1795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428760" y="735120"/>
            <a:ext cx="792000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то такое шум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беспорядочное сочетание различ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по</a:t>
            </a: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силе и частоте зву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громкие звуки, слившиеся 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естройное    звуч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-явление всепроникающее и негатив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воздействующее на организм человека 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совокупности с другими фактор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(вредными       примесями в воздухе и вод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электромагнитным   излучением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апряженностью труда и т.д.).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6450120" y="720720"/>
            <a:ext cx="2009520" cy="1079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5219640" y="4140360"/>
            <a:ext cx="3060720" cy="2160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2"/>
          <p:cNvSpPr/>
          <p:nvPr/>
        </p:nvSpPr>
        <p:spPr>
          <a:xfrm>
            <a:off x="539640" y="549360"/>
            <a:ext cx="76662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точники шу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Работа бытовых приборов: телевизор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агнитофон, стиральная машина, ради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ранспорт железнодорожны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авиационный,    автомобильны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Строительные работ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Природные явления: гром, цунам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землетрясение, обвал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узы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лест листв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пот, разговор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ечение воды из кран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Крики, визг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30320" y="1440000"/>
            <a:ext cx="40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900000" y="539640"/>
            <a:ext cx="7559640" cy="63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Физические характеристики шу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Уровень шума измеряется в единицах звукового давления — децибелах (дБ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Болевой порог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                                                        1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кетный двигатель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4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ая музыка                                                               12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робильная машина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1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сс, метро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Уровень шума, вредный для слуха                              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9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Товарный поезд(на расстоянии 33 м)                            8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ылесос (на  расстоянии 3м)                                            7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Автомобильное движение на автостраде                       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зговор                               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Шелест листвы                                                                  1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ий разговор в классе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Хлопанье в ладоши на представлении                           88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«Ура»- хором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Девчачий визг                                                                  127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357120" y="539640"/>
            <a:ext cx="7740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оздействие шума проявля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260360" y="1357200"/>
            <a:ext cx="29955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луховой аппарат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нервную систему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ердечно-сосудистую систем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репродуктивную функцию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3357720" y="2500200"/>
            <a:ext cx="54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Человек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2571840" y="3143160"/>
            <a:ext cx="5759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танови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Раздражительным, нервным, слабым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забывчив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Тревожным, испуганным, плохо види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ухудшается  интеллектуальная деятельност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ыстро утомляем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иобрета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Гипертоническую болезн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ессонниц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еправильный обмен вещест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Снижается порог чувствительности нервных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клеток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539640" y="3351240"/>
            <a:ext cx="1981440" cy="20494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0:41:28Z</dcterms:created>
  <dc:creator>Ванек</dc:creator>
  <dc:description/>
  <dc:language>en-US</dc:language>
  <cp:lastModifiedBy>КарМаН</cp:lastModifiedBy>
  <dcterms:modified xsi:type="dcterms:W3CDTF">2011-08-23T12:14:27Z</dcterms:modified>
  <cp:revision>12</cp:revision>
  <dc:subject/>
  <dc:title>Проект на тему: «Негативное влияние шума на  здоровье человека»</dc:title>
</cp:coreProperties>
</file>